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7C5-86AC-463A-B108-9F6F1FA5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CEA-BA0B-41EC-8244-D7482666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B91-C62B-4AB2-80F6-76C86F60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9F3-0977-476E-A49F-F2678D61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B53-D2E0-41F7-B0F3-52315F8A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C4D-FCE7-4800-89CF-0E5BDF14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EC8-9402-4D52-B2FB-C37DF669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A17-820C-4220-A54E-45226EE5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0BB-73A9-4280-AD49-2CF5E98D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960-EAA7-43BD-9A96-7B7D5DF0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E8F-C3DF-41E3-AC52-D5B391D1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4D6-2757-4479-B43A-AE244925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C424-863A-44E6-AB50-E341214EB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ertainment of Rus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.. *..(¨`•.•´¨). *`•.¸.•´* . *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* ... *`•.¸.•´ * *. * . * . * ... *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☮=Pea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♥=Hearts 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Doodle Smi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✿=Flow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☺=Smiley Face </a:t>
            </a:r>
            <a:br>
              <a:rPr sz="3200"/>
            </a:br>
            <a:r>
              <a:rPr b="0" lang="ka-GE" sz="3200" spc="-1" strike="noStrike">
                <a:solidFill>
                  <a:srgbClr val="000000"/>
                </a:solidFill>
                <a:latin typeface="Arial"/>
              </a:rPr>
              <a:t>ღ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cy Hea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☆=Star 1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★=Star 2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♣=clover!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♪♫=Mus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◦◕‿◕◦=face </a:t>
            </a:r>
            <a:br>
              <a:rPr sz="3200"/>
            </a:b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Ѽ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Ƹ̵̡</a:t>
            </a: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Ӝ̵̨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Ʒ=butterf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✔=checkmar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✖=x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✦=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4:10:21Z</dcterms:created>
  <dc:creator>RoNald</dc:creator>
  <dc:description/>
  <dc:language>en-US</dc:language>
  <cp:lastModifiedBy>Bowey</cp:lastModifiedBy>
  <dcterms:modified xsi:type="dcterms:W3CDTF">2010-12-16T01:12:45Z</dcterms:modified>
  <cp:revision>4</cp:revision>
  <dc:subject/>
  <dc:title>Culture in Russia</dc:title>
</cp:coreProperties>
</file>